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A00-A388-481B-8EF2-E35BBFE8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A9E-573C-48AD-834E-0320AA66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926-DA23-4B96-8E57-66096735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3A7-BF2C-41FE-9288-D8B8F5A7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4F3-BCF2-4375-8534-3AE1DAD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8A1-E432-4E01-B6B1-F231E481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D95-843B-45B9-9D65-7F093F8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CC8-AC2D-4653-B805-5032EC73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DBB-28B5-465D-9691-82F52475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737-7DEF-4B2C-A216-71F725AB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AC2-8A4B-40B5-8EC0-A7998E9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55D-E80B-4FA5-A6A5-17243AB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D0F-423B-402C-996E-A469BD7526F7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PORTUNITY !!!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monstrate your abil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 algn="ctr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 algn="ctr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velop and learn new ski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quire new inform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engthen your CAN DO attitu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mazing "Feats"-  “… when you have the will" (2:36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59464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rades 11 - 1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r. Bruce Guenth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HS Gifted Resource Room 4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759-6400 x 314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s 11 -1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r. Guenth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ptember 28, 201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n you follow directi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r dominant arm and hand should be kept immobile until leaving the Auditor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 the seating directions, on your handout, to find your assigned are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fter you are seated, you may enjoy your treat…when you get it opened. Please don’t leave any trash 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31528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art of your current challenge inspired by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Alternate Persona project - University of California (5:36)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How do you see challenges?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Obstacle ?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toppage / block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- avoidanc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- excuse generator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Opportunity!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Demonstrate your ability and attitud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+ problem solv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+ work ethic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                              + perseveranc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+communic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Develop and learn new skills, acquire new informat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692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ty gifted students in Grades 11 -1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 resumes: one General and one Focused (Jun 22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5 completed at least one resume (37.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5 resumes completed (31.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0 completed two required resumes (2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 completed both resumes on time (.0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Need all outstanding resumes by next Tues 10/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2 hardcopies of each    - e-mailed version of eac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rections on www.bhsgifted.wikispaces.co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itle 1" descr=""/>
          <p:cNvPicPr/>
          <p:nvPr/>
        </p:nvPicPr>
        <p:blipFill>
          <a:blip r:embed="rId1"/>
          <a:stretch/>
        </p:blipFill>
        <p:spPr>
          <a:xfrm>
            <a:off x="249120" y="268200"/>
            <a:ext cx="874872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oal is to help you to impro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ork with a purpose, not busy wor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me, effort, purpose on my end - YOU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nar Report Card – feedback on your e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you fail to meet deadlines or complete activity = more work for 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enerates frust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effort to demonstrate positive traits, not reveal a nega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scheduled for 27 min/week (.0026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ry to group and assign on info giv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pproximately 10-12 students per d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rs. Spencer’s – Room 32, 1:29 – 1:5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ist to teachers so you can report direct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UNICATION!!!!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flicts, reschedule, make-up activ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pic 1 – PSAT, SAT writing promp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iods 01,02,03,04,06,07,08;  Not 0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ed to know who is interes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work, reading, brain activ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 COMPUTER GA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rt paperwork for changes next wee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Study Hall teach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yself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udent Coordinator positions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 – Advanced Research in Medicin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 – Gifted Open Ho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 – Model United N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lan and implement activ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lp with commun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8:16:26Z</dcterms:created>
  <dc:creator>End User</dc:creator>
  <dc:description/>
  <dc:language>en-US</dc:language>
  <cp:lastModifiedBy>End User</cp:lastModifiedBy>
  <dcterms:modified xsi:type="dcterms:W3CDTF">2010-09-28T12:57:12Z</dcterms:modified>
  <cp:revision>20</cp:revision>
  <dc:subject/>
  <dc:title>2010 -Gifted Seminar- 2011</dc:title>
</cp:coreProperties>
</file>